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25B-92A5-4019-8C1B-7EF0A051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234-02F4-4A1E-89EC-24A5A92F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FA0-D01F-457D-A0CB-A8560A11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801-114C-4E31-B4C9-93C6A775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D45-F276-445A-A836-7A9079C0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DA8B-9840-4270-B6A2-A8297BD6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D3BE-EDA8-4ABA-A80C-1ABD5C7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0367-07A8-45A8-87CD-1A6EEFB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7280-6601-4F6D-9C41-63DBA025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F0C3-F63F-4E03-A7B2-88B0BD2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46FB-1815-4245-BA56-385BB0A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EB2-334A-40B0-A6A9-0D2CCA80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EB26-85E4-410A-86F2-142B8226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CE19-32E6-4DCE-82B8-65F0842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D9A-FE57-49BC-BED4-A24983CF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04C1-81C2-4968-9DAC-132D6B98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A287-75C7-48DD-B33F-F060D429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956-1C92-4203-98BA-8306FFE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0C2-CEC4-46E5-BDA7-ACDFD9F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918-8940-47B4-AD33-1D673914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4DD-16DC-4403-ADDB-BEEC7BFE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C45-B9D4-4110-B580-842BDEA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0B1-C08A-48D4-B5D6-3730348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E95-A6DA-4D11-A93C-E432FA5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0D4-4B31-433F-A03F-3B329D9478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B444-F6B1-4503-8129-ED522AD1F5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ar.by-airforce.com/images/Italy-1943/Invasion_of_italy_1943-R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8080" y="609480"/>
            <a:ext cx="7391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poral Leander Geun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22884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38760" cy="3763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5791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Harold Alex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791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poral Leander Geun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792600" cy="4543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The Allied invasion of Ita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8288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048120" y="609480"/>
            <a:ext cx="2827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ps of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400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asion of Italy 19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le of Italy 1943-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862360"/>
            <a:ext cx="4800600" cy="399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209680" y="380880"/>
            <a:ext cx="41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ing o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241800"/>
            <a:ext cx="4191120" cy="361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89548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r in 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2:56:39Z</dcterms:created>
  <dc:creator>Information Technology</dc:creator>
  <dc:description/>
  <dc:language>en-US</dc:language>
  <cp:lastModifiedBy>Information Technology</cp:lastModifiedBy>
  <dcterms:modified xsi:type="dcterms:W3CDTF">2010-02-11T13:13:46Z</dcterms:modified>
  <cp:revision>4</cp:revision>
  <dc:subject/>
  <dc:title>Slide 1</dc:title>
</cp:coreProperties>
</file>